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5E0-922A-4E5C-BDC0-89A455AB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69AF-CD29-4C9C-9BA0-5DCA58B2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EBE-5F54-4B49-98EF-7BC7AAF0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A99A-2E20-49F1-8AC9-9335BD31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4F2-76AA-438A-AB6C-08B950C2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105-741D-4C61-A040-62387A5C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05D-254F-496B-99F6-7B9C2EAF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B96-13B3-4F9C-B3B8-D94193E5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928B-C93C-4241-8FA1-734291CC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FAF0-EB39-42FB-B24F-67427075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5BC7-B99A-464E-AAE5-ED78BE5E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B4D-7C1F-4B4A-874B-884E8369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B669-6905-470D-8C28-7D63F4165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6 + 1 Traits of Good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57480" y="1600200"/>
            <a:ext cx="3027240" cy="452592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1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 refers to the mechanical correctness of the piece:  spelling, grammar, usage, paragraphing, use of capitals, punc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 also refers to the style of a piece of writing (example:  how to write a business letter or a formal essa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24480" y="1905120"/>
            <a:ext cx="28195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Broadway"/>
              </a:rPr>
              <a:t>ID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deas are information which can come from the writer’s own experiences or observations, research, reading, or talking with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419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80160" y="2286000"/>
            <a:ext cx="21445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4952880" cy="619236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onsidering ideas for your writing, remem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have a solid, main idea that is clear and easy to ident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need interesting, relevant, accurate details that expand or clarify your main idea and bring it to life.  In narrative writing, this is done through effective description and imag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message must be clear and easily underst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left out unneeded information.  Every detail that you have included contributes to the pi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38680" y="838080"/>
            <a:ext cx="3276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AGERY: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that appeals to the senses. Descriptions of people or objects stated in terms of our senses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3657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is the structure of a piece of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ucture you choose should enhance your ideas and make your piece easier to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gives your writing direction and helps your reader move through your ide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S TO STRONG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tful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, effective, and purposeful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pacing – speed up and slow down to help your readers determine what is important and what is second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conclusion – wraps your piece up and leaves your reader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0" y="2666880"/>
            <a:ext cx="11844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6172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is the writer’s personality and individuality translated onto the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is the individual style of the wr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shows that the writer cares about his or her audience and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less writing is lifeless writ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15541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choice is the careful selection of words that fit audience, topic, and 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choice includes energetic verbs, specific nouns, effective adjectives and adverbs.  This creates vivid images and clear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and precise words make great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in sentence length and style adds interest to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should flow smoothly when read a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(if used) is effective and authen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1:15:56Z</dcterms:created>
  <dc:creator>nbdoe</dc:creator>
  <dc:description/>
  <dc:language>en-US</dc:language>
  <cp:lastModifiedBy>nbdoe</cp:lastModifiedBy>
  <dcterms:modified xsi:type="dcterms:W3CDTF">2006-09-26T12:31:35Z</dcterms:modified>
  <cp:revision>8</cp:revision>
  <dc:subject/>
  <dc:title>6 + 1 Traits of Good Writing</dc:title>
</cp:coreProperties>
</file>